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B01F-BDA4-41F9-AB6B-7FCD86C9BF0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ды Михаила Васильевича Ломо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2069-835E-4636-827A-6E1B06F738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Calibri"/>
              </a:rPr>
              <a:t>Ода 1750 г. посвящена точным нау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йдите землю и пуч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тепи, и глубокий лес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нутр Рифейский, и верш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аму высоту небе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езде исследуйте всеч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то есть велико и прекр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го еще не видел свет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9339-2CD7-4560-A3F0-87686ACE76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ое количество од Ломоносов посвятил Елизавете Петровн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акую радость ощущаю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я ныне восхищен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у пищу я вкушаю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ерьх Олимпа вознесен!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B71A-C6E0-47A9-9140-5BDCE63A7A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1"/>
                </a:solidFill>
                <a:latin typeface="Calibri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гда божественны науки  чрез горы, реки и моря  в Россию простирали руки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ли я ныне позабылась  и с одного пути склонилась,  которым прежде я текла?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55D9-221E-49D2-918A-66DA08A49E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718E-65B0-4C5D-BCA4-472FBB1E22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духовных од лаконичен и лишен всякого рода "украшений"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80A8-2CFE-49E3-9ADC-2771B95EBB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икто не уповай вовеки на тщетну     власть князей зем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DAF-EE95-427E-AD7B-C4ED3063FA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73D7-DCF8-4699-94E3-F71F862FB8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О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лирический жанр, пришедший в европейскую литературу из античн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бедно-патриот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хв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лософ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ухо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накреонтическ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BCEB-6A16-4966-9295-718E7C3AE1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ода Ломоносова – «Ода на взятие Хот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1FF2-1F73-40ED-95D4-0550CF77E1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01"/>
                </a:solidFill>
                <a:latin typeface="Calibri"/>
              </a:rPr>
              <a:t>В оде Ломоносова выделяется три основные части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вое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авление побе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1DD9-5EEC-4A0D-ADBE-A28D5DD4A4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Calibri"/>
              </a:rPr>
              <a:t>О подвиге безымянного героя Ломоносов пишет с восхищением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репит отечества любов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ынов российских дух и руку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Желает всяк пролить всю кров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От грозного бодрится звуку…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8DD0-E2DE-4B35-895C-36C6098351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е Иоанн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анну Антонович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е Петров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у II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е 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0F70-18B4-4CAA-95A5-7A059F51F1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E1A2-FC92-4BD4-86D4-74FE04D464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ы Ломоносова отражают многие события то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6C9E-AF45-49DD-880A-74EAA3980F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1A7C-5ACA-4EEC-9B45-DD1C596D20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B944-3D61-4442-8B47-75D85796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17F5-5A9A-4AEE-8651-05CC6A54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F80A0-26F3-437A-AE40-52017A9B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DE01-011B-4F43-8EFF-D77E7BA7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C20A-6832-4AF6-A36A-6BFF7E2A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877B-34F5-427B-81BB-5B81BD33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C216-4F2E-432E-A0A4-EF6CE477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5BEC-2242-448D-A967-53605FAB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707C-185F-4ED0-9403-2DF74768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CE18-8A15-4072-AA6D-B50098E8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4335-FF39-4ED0-B7B0-36A85C08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3C9D-0ACE-4989-8DF0-762AB4C1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0B27-DA38-4313-8F3A-210C190E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9BDB-ED82-4F9B-A288-B756066C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9B33-6CAA-4328-B605-BA0E19A8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05FC-8D41-4BE9-848E-71EFBAF6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34AD-9C6E-45CD-83B6-A24940D4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37EB-2500-431C-AAA9-4ABCD943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E174-5FB5-4439-8880-F539B270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978E-373D-4495-8234-E9D4C289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7A8E-4EEF-426C-A0EC-8ED64BF6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F894-370B-41A0-B378-82068E9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D382-DF64-48B2-92E7-AFEA76A1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071F-32B2-4B0E-AD12-7FD6951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1919-8890-49BA-954B-ADA4FF0DD15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1AB3-1585-4203-9437-E7B3678B725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LEGION</cp:lastModifiedBy>
  <dcterms:modified xsi:type="dcterms:W3CDTF">2015-01-20T10:11:09Z</dcterms:modified>
  <cp:revision>5</cp:revision>
  <dc:subject/>
  <dc:title>Оды Михаила Васильевича Ломоносова</dc:title>
</cp:coreProperties>
</file>